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7C786-FF26-4BF5-9DE1-65F791BC9A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09E2-1DD3-427E-9B8C-013602D76F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ADF8A-6E2A-4E2B-AC81-DCCD31B366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B809A-7E35-4927-8C0F-BF61A1D7DE9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FD4FB-20E1-45B8-9987-582D0DE8A8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89FD3-0B2F-4BD5-860A-41E21628FE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09E9-DE72-4B26-9EC1-3E312303D5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BD059-2DB1-43B4-AA6E-6C2AEFF628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603BC-E814-4DAA-9DF1-3013E0E968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03CA8-583B-44DC-B20F-BC102FDF94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67D66-72ED-4258-84E6-8B7D5BACB5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7206-1F7C-4347-B6B9-07B475B2A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3843-344D-4077-94D8-DB324EB7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B121-756F-469D-8AA0-78EAD247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1384-B4C6-4160-8EA0-51A67CB9A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EDF0-5395-4681-8463-D7A09EFE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AAFE-388A-44C5-8EE7-3FC73283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905F-7793-4B44-B49A-17A34540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5828-F06C-49EF-BD20-399C986E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3A63-688B-446F-BD5D-5A769C6B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9DD9-07A3-439B-98AE-DFECCE47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1442-F5AD-4054-9E69-06AB1BFE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AA52-AAEB-4960-AA84-419E4F99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4C2EC3-D060-4551-A624-3324BE87779C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4360" y="1224000"/>
            <a:ext cx="374472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ísico, teólogo, inventor y alquimista inglés nacido en 164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 uno de los primeros investigadores en postular que la composición d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era diferente a la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perfic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ando su famosa ley de la gravedad, dedujo qu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ateriales d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debían tener aproximadamente el doble de densidad que los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perfic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Isaac New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4572000" y="836640"/>
            <a:ext cx="4248000" cy="5408640"/>
          </a:xfrm>
          <a:prstGeom prst="rect">
            <a:avLst/>
          </a:prstGeom>
          <a:ln w="0">
            <a:noFill/>
          </a:ln>
        </p:spPr>
      </p:pic>
      <p:sp>
        <p:nvSpPr>
          <p:cNvPr id="71" name="9 CuadroTexto"/>
          <p:cNvSpPr/>
          <p:nvPr/>
        </p:nvSpPr>
        <p:spPr>
          <a:xfrm>
            <a:off x="4572000" y="6237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saac New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11280" y="1197000"/>
            <a:ext cx="4284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eorólogo y sismólogo nacido en Croacia en 185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zo importantes estudios sobr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lima, pero pasaría a la historia por descubrir la discontinuidad que separa la corteza del manto, siendo el primer científico en descubrir una de las discontinuidades entre las capas del interior terr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ideas no fueron comprendidas ni aceptadas hasta muchos años despu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drija Mohorovic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673440" cy="5052960"/>
          </a:xfrm>
          <a:prstGeom prst="rect">
            <a:avLst/>
          </a:prstGeom>
          <a:ln w="0">
            <a:noFill/>
          </a:ln>
        </p:spPr>
      </p:pic>
      <p:sp>
        <p:nvSpPr>
          <p:cNvPr id="80" name="9 CuadroTexto"/>
          <p:cNvSpPr/>
          <p:nvPr/>
        </p:nvSpPr>
        <p:spPr>
          <a:xfrm>
            <a:off x="5219640" y="59500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drija Mohorovic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9640" y="1628640"/>
            <a:ext cx="4537080" cy="40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mólogo alemán nacido en 188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octoró a los 22 años, y a los 25 ya había realizado el descubrimiento por el que pasaría a la historia, la discontinuidad entre el manto y el núcle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es conocido por ser uno de los que creó, junto a Charles Ritcher, la famosa escala Ritcher para medir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tensidad de los seís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71640" y="83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Beno Guten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816360" cy="5241960"/>
          </a:xfrm>
          <a:prstGeom prst="rect">
            <a:avLst/>
          </a:prstGeom>
          <a:ln w="0">
            <a:noFill/>
          </a:ln>
        </p:spPr>
      </p:pic>
      <p:sp>
        <p:nvSpPr>
          <p:cNvPr id="89" name="9 CuadroTexto"/>
          <p:cNvSpPr/>
          <p:nvPr/>
        </p:nvSpPr>
        <p:spPr>
          <a:xfrm>
            <a:off x="5003640" y="602136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o Gutenbe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68360" y="992160"/>
            <a:ext cx="4824360" cy="52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móloga y matemática danesa nacida en 188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28 fue declarada jefa del departamento de sismología del Real Instituto Geodésico Danés, donde ejerció su profesión durante 25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36 publicó el descubrimient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scontinuidad que separa el núcleo externo (fundido), del interno (sóli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rió en1993, a los 104 años de edad, tras una vida llena de aportes 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ología. Tales fueron sus méritos que en 1995 se crea la medalla Lehmann, otorgada a los que hacen grandes aportes al descubrimiento de la estructura de la Tier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620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Inge Leh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364000" y="907920"/>
            <a:ext cx="3529080" cy="4970520"/>
          </a:xfrm>
          <a:prstGeom prst="rect">
            <a:avLst/>
          </a:prstGeom>
          <a:ln w="0">
            <a:noFill/>
          </a:ln>
        </p:spPr>
      </p:pic>
      <p:sp>
        <p:nvSpPr>
          <p:cNvPr id="98" name="9 CuadroTexto"/>
          <p:cNvSpPr/>
          <p:nvPr/>
        </p:nvSpPr>
        <p:spPr>
          <a:xfrm>
            <a:off x="5364000" y="59500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ge Lehm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2T09:50:18Z</dcterms:modified>
  <cp:revision>47</cp:revision>
  <dc:subject/>
  <dc:title>Diapositiva 1</dc:title>
</cp:coreProperties>
</file>